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710-378C-4EB9-B541-FBE79466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600-96F4-4007-8C9E-C8BFD58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313-736B-42AA-9C9E-AD1DBAAA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661-95EE-4B9F-99C1-AC3039CB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BFA-7C0F-4A0B-9F9D-2D115139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CDD1-8F0A-459D-B11F-4CD3F559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7EA5-E052-42F4-B128-494FC09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C9F7-059B-4818-A2FF-F254D6F9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FA5C-3D4C-4179-A97C-4003BC9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6192-3E2E-44BD-B90E-87AB06F2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247E-A1AF-4CFB-9389-BAA941C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FCE-DA16-483D-8B04-B86DD0D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AC9F-748E-4A3A-8F49-51AFDFB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3F30-64B1-4A6A-BDE8-5E706A3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8907-1B17-49EF-98FB-90C941DF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5183-1DFA-4610-86E8-31B277DC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4A2A-96AC-4EAA-BA2D-1F538729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97F4-7DB5-48F3-96AC-1E74C39B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775C-7F2A-4102-8EA9-BBFD16AE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5E3E-B4C9-47E4-B290-D616489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C934-4ACC-4369-9E79-7993FC74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D4BF-FB72-4BB7-BA18-1A06425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AE5-B070-4D65-89EE-C77FCDA0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261A-767F-42EC-B5FE-C106FE56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ADFA-D395-408A-B933-9CE7E02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1307-33CD-4029-AD7D-FCD4D3D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F2AA-1E42-4B95-B612-0E3802E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2B23-29F1-4E73-9B66-6FE2E6D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2C0C1-1CCF-40BE-9659-BF876C89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CDAA-2942-4209-849C-6EC7054B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7623-C6E8-4CF9-93D8-6086A3C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2290-5C08-4121-8A5E-78CCF6E9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878CF-78AF-4D6E-B2B5-223F90C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B06-1203-42C6-A349-F634D022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538C-9629-4ADD-921A-C724ED3E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09A5-0802-44BD-B5C0-74D7AB10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EF38-03BE-4E5C-8BDC-E4E77D22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7498-BAE2-411C-BE46-A177F9F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D26A-8E51-4E1F-9F13-0F42330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4F68-F15A-47CB-A172-1AE832EE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A725-62F1-432A-9DA1-143B8A7A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CDB4-51A9-4BFA-8FDD-E342E0CF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D129-E0BB-4E95-AB88-EF9AF1FB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C2E8-F7DE-4467-8CAD-E28B158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6D6-AAF3-48E1-8528-94F3FFCE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7C4A-2E42-4298-835D-86784EA7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1845-877F-4D56-A08E-41F704F6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062C5-01D9-49CB-B048-F0B32355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2158-0002-4F92-9A31-87927E9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2B67-73C3-4A70-855C-D634F201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1B8A-7154-40E8-9AD1-B0C0E25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B327D-0539-4097-B645-DCF76AE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9042-810B-4F5D-B00F-CCC0416D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BEB9A-5034-4600-AEA4-A998EAC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604F7-D976-4993-B349-DE248179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245-E888-4CC7-9E1E-49A3F74C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6C5D-2319-462B-8FB7-2E3BECA1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5FF1-3873-4476-8866-E0B4AFEB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5B25-0444-4B11-BEE0-A46C767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F463-AD76-49A6-A794-61DBC138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0797-4651-455B-A920-219DD041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A0C1-B5E1-4022-A4EF-86A11F01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4AA7-277F-49DB-8DF6-F90561D8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23DFF-E8B8-4FDA-8828-2C59B9F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2185-B4C0-4236-9B71-5FC9A257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C8FD-9993-4100-A5FF-F3A0C23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61B-74BE-465B-8823-3DE009E5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CE57-6789-4E6D-A940-9D4C85F0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BBF6A-50CE-4E46-9B4C-169FFB44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8360-2D02-464C-8679-98FCFBEB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E7E6-52BD-450B-8774-887C66CB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19D0-1777-4EB5-89A6-65F1A88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6822B-BF01-4B64-A51E-C97069F8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4FA6D-28F7-44BA-B518-FEEB5163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B3C5-8282-4D4E-B12B-E09B23E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E96D7-82F5-4CC1-8268-F30283A2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FD2A-7411-4CE9-B685-4C2CA08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CD1-1C8D-4148-A583-023272D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E15F-6AB7-4FB3-9837-1012A65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F2C22-0E90-4FD8-A0BA-50577E6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95F63-EEEC-45D4-A48E-1D2FFF11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8D567-33CA-4AA4-8092-F9D5211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B685-821F-4369-8217-08A6F42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7DB-43C4-4717-872F-510A5D6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49D-31D1-4DCC-AAF9-7155FC96BB6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C26E-7080-4D0A-BB5B-9697C3DABE5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9561-410D-4420-9362-BF91DEF0B11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5C06-AE25-466A-901A-D84EBA28A53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70AA-E93C-4F89-BCF1-F21C12732DE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5AB-252F-4F37-AFE9-88530E613D4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EFD-3163-434C-8CE1-9BD95BA0BC6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ndara"/>
              </a:rPr>
              <a:t>Historia PRALKI 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71640" y="1988640"/>
            <a:ext cx="73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Kijanka do prani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- narzędzie używane do prania, zazwyczaj w otwartych wodach (w rzece lub jeziorze) w postaci kija lub krótkiej deszczułki (albo drewnianej łopatki). Pranie polega na wielokrotnym uderzaniu obficie zmoczonej wodą sztuki odzieży kijanką i stałym spłukiwaniu jej wodą. Cząsteczki brudu wybijane są mechanicznie spomiędzy włókien tkaniny, a następnie wypłukiwane. Niekiedy podczas prania dodawano niewielkie ilości mazi otrzymywanej przez prażenie mieszanki popiołu roślinnego i łoju - poprzedników mydł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ijanka do prani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71640" y="1916280"/>
            <a:ext cx="7308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a 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ka)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 - narzędzie wykorzystywane do prania odzieży; konstrukcja w postaci blachy falistej (lub innej sfałdowanej powierzchni - np. szklanej albo plastikowej), zwykle umocowanej w drewnianej lub metalowej ramie. Tara była zazwyczaj umieszczona w balii, osoba piorąca ręcznie przesuwała (tarła) namaczaną bieliznę po powierzchni tary. Tara praktycznie wyszła z użycia po pojawieniu się pralk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Falista powierzchnia tary pocierana ręką lub jakimś przedmiotem wydaje charakterystyczny odgłos, co wykorzystywane jest przez niektóre zespoły muzyczne (najczęściej wykonujące muzykę country) do wzbogacenia brzmienia wykonywanych utworów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Tar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133360"/>
            <a:ext cx="773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Pierwszą pralkę zbudował Amerykanin James King w 1851 r. Jej działanie opierało się na wykorzystaniu pary, a zasada działania tej pralki znacznie odbiegała od naśladowania ręcznych czynności. Pralki napędzane elektrycznie zaczęto konstruować w 1899. Jedną z pierwszych była pralka z bębnem z emaliowanego drewna, która została zbudowana w 1907 roku przez Alvę Fishera. Przez kilka następnych lat ta pralka była udoskonalana poprzez poziome lub pionowe ustawienie bębna, zmianę szybkości obrotów, itp. W Polsce przez wiele lat popularna była pralka Frania. Z czasem pralki półautomatyczne zostały wyparte przez automatyczne. Pralka z 1934 roku sama utrzymywała stałą temperaturę wody, dozowała proszek i płukała. W 1937 roku w USA zbudowano pierwszą programowaną pralkę automatyczną – wykonującą takie czynności jak: pranie, płukanie, odwirowanie oraz czasowe zaprogramowanie czynności, ustawienia temperatury wody czy szybkości obrotów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Pralka automatyczn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640" y="1628280"/>
            <a:ext cx="8785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1" lang="pl-PL" sz="2800" spc="-1" strike="noStrike">
                <a:solidFill>
                  <a:srgbClr val="073e87"/>
                </a:solidFill>
                <a:latin typeface="Candara"/>
              </a:rPr>
              <a:t>TARA                    KIJANKA         Pralka </a:t>
            </a:r>
            <a:r>
              <a:rPr b="1" lang="pl-PL" sz="2600" spc="-1" strike="noStrike">
                <a:solidFill>
                  <a:srgbClr val="073e87"/>
                </a:solidFill>
                <a:latin typeface="Candara"/>
              </a:rPr>
              <a:t>automatyczna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GALERIA ZDJĘĆ PRA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11280" y="2247840"/>
            <a:ext cx="2415960" cy="3097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276720" y="2224080"/>
            <a:ext cx="2447640" cy="309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80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5:04:30Z</dcterms:created>
  <dc:creator>Dorota</dc:creator>
  <dc:description/>
  <dc:language>en-US</dc:language>
  <cp:lastModifiedBy>Dorota</cp:lastModifiedBy>
  <dcterms:modified xsi:type="dcterms:W3CDTF">2013-08-19T08:45:41Z</dcterms:modified>
  <cp:revision>12</cp:revision>
  <dc:subject/>
  <dc:title>HISTORIA PRALKI</dc:title>
</cp:coreProperties>
</file>